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F27-8DE4-4108-B7F5-79647D09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646-75F7-4A77-B31D-20EE0894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CE13-9CF0-40A4-AC6B-BD00767D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DEE-4EDB-419F-A1E9-9B579097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9BE0-2D50-42D0-AFD3-01F37EBA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F19-1973-45AA-B27E-88A09895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508-65BE-405C-9DB5-C5919B98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189-1716-444B-A87E-09D698B2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AF0-D0F4-4E6F-B5DD-F9230E09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61B-19CD-47FB-800F-09D3E847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9E8-8C97-4790-A9E3-84FD7F12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15D-BF63-45EC-875C-ACB45A3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7632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469F-8481-49E2-ABD3-8FAB47ADD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525600" cy="525240"/>
          </a:xfrm>
          <a:custGeom>
            <a:avLst/>
            <a:gdLst>
              <a:gd name="textAreaLeft" fmla="*/ 131400 w 525600"/>
              <a:gd name="textAreaRight" fmla="*/ 394560 w 52560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16215" y="5400"/>
                </a:lnTo>
                <a:lnTo>
                  <a:pt x="5400" y="5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16215" y="16200"/>
                </a:lnTo>
                <a:lnTo>
                  <a:pt x="16215" y="5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15" y="16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15" h="21600">
                <a:moveTo>
                  <a:pt x="6782" y="10800"/>
                </a:moveTo>
                <a:lnTo>
                  <a:pt x="14832" y="6775"/>
                </a:lnTo>
                <a:lnTo>
                  <a:pt x="14832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542440" y="6256440"/>
            <a:ext cx="525240" cy="525240"/>
          </a:xfrm>
          <a:custGeom>
            <a:avLst/>
            <a:gdLst>
              <a:gd name="textAreaLeft" fmla="*/ 131400 w 525240"/>
              <a:gd name="textAreaRight" fmla="*/ 394200 w 525240"/>
              <a:gd name="textAreaTop" fmla="*/ 131400 h 525240"/>
              <a:gd name="textAreaBottom" fmla="*/ 394200 h 52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990720"/>
            <a:ext cx="8381880" cy="2971800"/>
          </a:xfrm>
          <a:custGeom>
            <a:avLst/>
            <a:gdLst>
              <a:gd name="textAreaLeft" fmla="*/ 349920 w 8381880"/>
              <a:gd name="textAreaRight" fmla="*/ 8031960 w 8381880"/>
              <a:gd name="textAreaTop" fmla="*/ 349920 h 2971800"/>
              <a:gd name="textAreaBottom" fmla="*/ 2621880 h 2971800"/>
            </a:gdLst>
            <a:ahLst/>
            <a:rect l="textAreaLeft" t="textAreaTop" r="textAreaRight" b="textAreaBottom"/>
            <a:pathLst>
              <a:path w="6091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7317" y="21600"/>
                </a:lnTo>
                <a:arcTo wR="3600" hR="3600" stAng="10800000" swAng="5400000"/>
                <a:lnTo>
                  <a:pt x="60917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AMOS MOSTRAR-TE A FORMA COMO PODES USAR AS FICHAS DE PLANIFICAÇÃO E D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REV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981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ª fras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90920"/>
            <a:ext cx="54864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erifico se há palavras repe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3581280"/>
            <a:ext cx="403848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frase está bem cl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426708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sso enriquecer a fr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4952880"/>
            <a:ext cx="4724280" cy="76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pontuação está de acor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o que quero transmit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5943600"/>
            <a:ext cx="510516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Existe ligação entre esta frase e 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2362320"/>
            <a:ext cx="1218960" cy="533160"/>
          </a:xfrm>
          <a:prstGeom prst="wedgeRoundRectCallout">
            <a:avLst>
              <a:gd name="adj1" fmla="val -166148"/>
              <a:gd name="adj2" fmla="val 33629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ão h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3276720"/>
            <a:ext cx="4343400" cy="761760"/>
          </a:xfrm>
          <a:prstGeom prst="wedgeRoundRectCallout">
            <a:avLst>
              <a:gd name="adj1" fmla="val -58333"/>
              <a:gd name="adj2" fmla="val 18750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Times New Roman"/>
              </a:rPr>
              <a:t>É melhor ser mais específcio no loc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267080"/>
            <a:ext cx="4038480" cy="609840"/>
          </a:xfrm>
          <a:prstGeom prst="wedgeRoundRectCallout">
            <a:avLst>
              <a:gd name="adj1" fmla="val -57231"/>
              <a:gd name="adj2" fmla="val -9375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u caracterizar melhor o incên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5219640"/>
            <a:ext cx="1218960" cy="495360"/>
          </a:xfrm>
          <a:prstGeom prst="wedgeRoundRectCallout">
            <a:avLst>
              <a:gd name="adj1" fmla="val -247916"/>
              <a:gd name="adj2" fmla="val -2660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6019920"/>
            <a:ext cx="1219320" cy="495360"/>
          </a:xfrm>
          <a:prstGeom prst="wedgeRoundRectCallout">
            <a:avLst>
              <a:gd name="adj1" fmla="val -213671"/>
              <a:gd name="adj2" fmla="val 25319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762120"/>
            <a:ext cx="8305920" cy="838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No Domingo, houve um incêndio na Serra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d’Arg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752480"/>
            <a:ext cx="3355920" cy="609840"/>
          </a:xfrm>
          <a:prstGeom prst="borderCallout1">
            <a:avLst>
              <a:gd name="adj1" fmla="val 18750"/>
              <a:gd name="adj2" fmla="val -8333"/>
              <a:gd name="adj3" fmla="val -47398"/>
              <a:gd name="adj4" fmla="val -3912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ffffff"/>
                </a:solidFill>
                <a:latin typeface="Times New Roman"/>
              </a:rPr>
              <a:t>entre Moledo e Cam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152280"/>
            <a:ext cx="1447920" cy="457200"/>
          </a:xfrm>
          <a:prstGeom prst="borderCallout1">
            <a:avLst>
              <a:gd name="adj1" fmla="val 18750"/>
              <a:gd name="adj2" fmla="val -8333"/>
              <a:gd name="adj3" fmla="val 173263"/>
              <a:gd name="adj4" fmla="val 15625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bolaacafrao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1066680"/>
            <a:ext cx="8534160" cy="106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No Domingo, houve um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incêndio na S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d’Arga,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entre Moledo e Caminha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.//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Alguém fez um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piquenique na ser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981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ª fras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320" y="2895480"/>
            <a:ext cx="52578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erifico se há palavras repe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358128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frase está bem cl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426708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sso enriquecer a fr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952880"/>
            <a:ext cx="4724280" cy="838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pontuação está de acor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o que quero transmit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320" y="5943600"/>
            <a:ext cx="502920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Existe ligação entre esta fr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2666880"/>
            <a:ext cx="2819520" cy="609840"/>
          </a:xfrm>
          <a:prstGeom prst="wedgeRoundRectCallout">
            <a:avLst>
              <a:gd name="adj1" fmla="val -70384"/>
              <a:gd name="adj2" fmla="val 22657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eti «serra». Vou substitu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3352680"/>
            <a:ext cx="761760" cy="762120"/>
          </a:xfrm>
          <a:prstGeom prst="wedgeRoundRectCallout">
            <a:avLst>
              <a:gd name="adj1" fmla="val -429166"/>
              <a:gd name="adj2" fmla="val 1854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4343400"/>
            <a:ext cx="4038480" cy="685800"/>
          </a:xfrm>
          <a:prstGeom prst="wedgeRoundRectCallout">
            <a:avLst>
              <a:gd name="adj1" fmla="val -58726"/>
              <a:gd name="adj2" fmla="val -30787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o pôr mais informação junto do verb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5295960"/>
            <a:ext cx="1218960" cy="495360"/>
          </a:xfrm>
          <a:prstGeom prst="wedgeRoundRectCallout">
            <a:avLst>
              <a:gd name="adj1" fmla="val -262629"/>
              <a:gd name="adj2" fmla="val -1442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5943600"/>
            <a:ext cx="3505320" cy="685800"/>
          </a:xfrm>
          <a:prstGeom prst="wedgeRoundRectCallout">
            <a:avLst>
              <a:gd name="adj1" fmla="val -59194"/>
              <a:gd name="adj2" fmla="val 9027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u pôr mais clara a lig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43800" y="2057400"/>
            <a:ext cx="1216080" cy="457200"/>
          </a:xfrm>
          <a:prstGeom prst="borderCallout1">
            <a:avLst>
              <a:gd name="adj1" fmla="val 18750"/>
              <a:gd name="adj2" fmla="val -8333"/>
              <a:gd name="adj3" fmla="val -98263"/>
              <a:gd name="adj4" fmla="val -145689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52280"/>
            <a:ext cx="990720" cy="762120"/>
          </a:xfrm>
          <a:prstGeom prst="borderCallout1">
            <a:avLst>
              <a:gd name="adj1" fmla="val 18750"/>
              <a:gd name="adj2" fmla="val -8333"/>
              <a:gd name="adj3" fmla="val 214791"/>
              <a:gd name="adj4" fmla="val 120194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ss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190512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laacafrao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72000" y="609480"/>
            <a:ext cx="2438280" cy="228600"/>
          </a:xfrm>
          <a:prstGeom prst="borderCallout1">
            <a:avLst>
              <a:gd name="adj1" fmla="val 18750"/>
              <a:gd name="adj2" fmla="val -8333"/>
              <a:gd name="adj3" fmla="val 443055"/>
              <a:gd name="adj4" fmla="val 129361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ensa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609480"/>
            <a:ext cx="8534520" cy="1752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No Domingo, houve um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grande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incêndio na Ser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d’Arga,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entre Moledo e Caminha, porque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lguém fez,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impensadamente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,  um piquenique </a:t>
            </a:r>
            <a:r>
              <a:rPr b="1" i="1" lang="pt-PT" sz="2800" spc="-1" strike="noStrike">
                <a:solidFill>
                  <a:srgbClr val="000000"/>
                </a:solidFill>
                <a:latin typeface="Times New Roman"/>
              </a:rPr>
              <a:t>nessa zona</a:t>
            </a:r>
            <a:r>
              <a:rPr b="0" i="1" lang="pt-PT" sz="2800" spc="-1" strike="noStrike">
                <a:solidFill>
                  <a:srgbClr val="ffffff"/>
                </a:solidFill>
                <a:latin typeface="Times New Roman"/>
              </a:rPr>
              <a:t>.// </a:t>
            </a:r>
            <a:r>
              <a:rPr b="1" i="1" lang="pt-PT" sz="2800" spc="-1" strike="noStrike">
                <a:solidFill>
                  <a:srgbClr val="ffffff"/>
                </a:solidFill>
                <a:latin typeface="Times New Roman"/>
              </a:rPr>
              <a:t>O fogo espalhou-se rapidamente tendo destruído muitos hectares de flor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1981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ª fras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819520"/>
            <a:ext cx="297180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Verifico se h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lavras repeti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3809880"/>
            <a:ext cx="411480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frase está bem cla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4419720"/>
            <a:ext cx="441936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Posso enriquecer a fr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5105520"/>
            <a:ext cx="4724280" cy="838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A pontuação está de acor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 o que quero transmit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172200"/>
            <a:ext cx="701028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Existe ligação entre esta frase e as anteri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2666880"/>
            <a:ext cx="1447920" cy="609840"/>
          </a:xfrm>
          <a:prstGeom prst="wedgeRoundRectCallout">
            <a:avLst>
              <a:gd name="adj1" fmla="val -333879"/>
              <a:gd name="adj2" fmla="val 27342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ão h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429000"/>
            <a:ext cx="3733560" cy="609480"/>
          </a:xfrm>
          <a:prstGeom prst="wedgeRoundRectCallout">
            <a:avLst>
              <a:gd name="adj1" fmla="val -71217"/>
              <a:gd name="adj2" fmla="val 49481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ece-me que 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4267080"/>
            <a:ext cx="3657600" cy="685800"/>
          </a:xfrm>
          <a:prstGeom prst="wedgeRoundRectCallout">
            <a:avLst>
              <a:gd name="adj1" fmla="val -66319"/>
              <a:gd name="adj2" fmla="val 15972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o usar um verbo mais expr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5257800"/>
            <a:ext cx="4038480" cy="533520"/>
          </a:xfrm>
          <a:prstGeom prst="wedgeRoundRectCallout">
            <a:avLst>
              <a:gd name="adj1" fmla="val -59435"/>
              <a:gd name="adj2" fmla="val -15476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u colocar uma vírg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791320"/>
            <a:ext cx="1447920" cy="533160"/>
          </a:xfrm>
          <a:prstGeom prst="wedgeRoundRectCallout">
            <a:avLst>
              <a:gd name="adj1" fmla="val -81250"/>
              <a:gd name="adj2" fmla="val 55356"/>
              <a:gd name="adj3" fmla="val 16667"/>
            </a:avLst>
          </a:prstGeom>
          <a:solidFill>
            <a:srgbClr val="00006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bolaacafrao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1295280"/>
            <a:ext cx="22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2209680"/>
            <a:ext cx="236232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7527"/>
              <a:gd name="adj5" fmla="val -96356"/>
              <a:gd name="adj6" fmla="val -752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vírgula a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169920"/>
            <a:ext cx="236232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12162"/>
              <a:gd name="adj5" fmla="val 482291"/>
              <a:gd name="adj6" fmla="val -3481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pagou-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2880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696080" cy="1981440"/>
          </a:xfrm>
          <a:prstGeom prst="rect">
            <a:avLst/>
          </a:pr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 vamos parar por aqui pois já viste como podes  trabalhar com as fichas que recortas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4800600"/>
            <a:ext cx="4647960" cy="1371600"/>
          </a:xfrm>
          <a:prstGeom prst="wedgeRectCallout">
            <a:avLst>
              <a:gd name="adj1" fmla="val 81421"/>
              <a:gd name="adj2" fmla="val -73611"/>
            </a:avLst>
          </a:prstGeom>
          <a:solidFill>
            <a:srgbClr val="ff99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E, para terminar, clica aqui para veres o último dia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6934320" y="41911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00cc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19040" y="2133720"/>
            <a:ext cx="8153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Quem disse isto foi Eugénio de Andrade, um dos  maiores poetas portugue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Times New Roman"/>
              </a:rPr>
              <a:t>Aquece também as tuas mãos nas letras, nas sílabas, no ritmo e, quem sabe, talvez venhas a ser um grande escritor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609480"/>
            <a:ext cx="7772400" cy="1295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Tenho as mãos tão quentes, quentes de amassar o poema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2933640" y="4495680"/>
            <a:ext cx="3086280" cy="1143000"/>
          </a:xfrm>
          <a:custGeom>
            <a:avLst/>
            <a:gdLst>
              <a:gd name="textAreaLeft" fmla="*/ 73800 w 3086280"/>
              <a:gd name="textAreaRight" fmla="*/ 3012480 w 30862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8312" h="21600">
                <a:moveTo>
                  <a:pt x="0" y="0"/>
                </a:moveTo>
                <a:lnTo>
                  <a:pt x="58312" y="0"/>
                </a:lnTo>
                <a:lnTo>
                  <a:pt x="58312" y="21600"/>
                </a:lnTo>
                <a:lnTo>
                  <a:pt x="0" y="21600"/>
                </a:lnTo>
                <a:close/>
              </a:path>
              <a:path fill="lightenLess" w="58312" h="21600">
                <a:moveTo>
                  <a:pt x="0" y="0"/>
                </a:moveTo>
                <a:lnTo>
                  <a:pt x="58312" y="0"/>
                </a:lnTo>
                <a:lnTo>
                  <a:pt x="56912" y="1400"/>
                </a:lnTo>
                <a:lnTo>
                  <a:pt x="1400" y="1400"/>
                </a:lnTo>
                <a:close/>
              </a:path>
              <a:path fill="darken" w="58312" h="21600">
                <a:moveTo>
                  <a:pt x="58312" y="0"/>
                </a:moveTo>
                <a:lnTo>
                  <a:pt x="58312" y="21600"/>
                </a:lnTo>
                <a:lnTo>
                  <a:pt x="56912" y="20200"/>
                </a:lnTo>
                <a:lnTo>
                  <a:pt x="56912" y="1400"/>
                </a:lnTo>
                <a:close/>
              </a:path>
              <a:path fill="darkenLess" w="58312" h="21600">
                <a:moveTo>
                  <a:pt x="58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12" y="20200"/>
                </a:lnTo>
                <a:close/>
              </a:path>
              <a:path fill="lighten" w="58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ço de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502920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Rosa Maria P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Março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628720" y="1676160"/>
            <a:ext cx="369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a propos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334120"/>
            <a:ext cx="6782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ecemos por pegar nas fichas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lanificaçã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e sigamos as sugest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2860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533520"/>
            <a:ext cx="6896160" cy="1143000"/>
          </a:xfrm>
          <a:custGeom>
            <a:avLst/>
            <a:gdLst>
              <a:gd name="textAreaLeft" fmla="*/ 134640 w 6896160"/>
              <a:gd name="textAreaRight" fmla="*/ 6761520 w 6896160"/>
              <a:gd name="textAreaTop" fmla="*/ 134640 h 1143000"/>
              <a:gd name="textAreaBottom" fmla="*/ 1008360 h 1143000"/>
            </a:gdLst>
            <a:ahLst/>
            <a:rect l="textAreaLeft" t="textAreaTop" r="textAreaRight" b="textAreaBottom"/>
            <a:pathLst>
              <a:path w="13028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6687" y="21600"/>
                </a:lnTo>
                <a:arcTo wR="3600" hR="3600" stAng="10800000" swAng="5400000"/>
                <a:lnTo>
                  <a:pt x="130287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AMOS ESCR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124080"/>
            <a:ext cx="8229600" cy="1143000"/>
          </a:xfrm>
          <a:custGeom>
            <a:avLst/>
            <a:gdLst>
              <a:gd name="textAreaLeft" fmla="*/ 134640 w 8229600"/>
              <a:gd name="textAreaRight" fmla="*/ 8094960 w 8229600"/>
              <a:gd name="textAreaTop" fmla="*/ 134640 h 1143000"/>
              <a:gd name="textAreaBottom" fmla="*/ 1008360 h 1143000"/>
            </a:gdLst>
            <a:ahLst/>
            <a:rect l="textAreaLeft" t="textAreaTop" r="textAreaRight" b="textAreaBottom"/>
            <a:pathLst>
              <a:path w="15547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51878" y="21600"/>
                </a:lnTo>
                <a:arcTo wR="3600" hR="3600" stAng="10800000" swAng="5400000"/>
                <a:lnTo>
                  <a:pt x="15547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m problema ambie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43800">
            <a:off x="7277040" y="4990680"/>
            <a:ext cx="914400" cy="838080"/>
          </a:xfrm>
          <a:prstGeom prst="foldedCorner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4724280"/>
            <a:ext cx="1295280" cy="1295640"/>
          </a:xfr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124080"/>
            <a:ext cx="769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ão, preciso d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221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4267080"/>
            <a:ext cx="3886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5264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tar atenção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o 1º parágra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5029200"/>
            <a:ext cx="1676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r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4" idx="2"/>
            <a:endCxn id="55" idx="0"/>
          </p:cNvCxnSpPr>
          <p:nvPr/>
        </p:nvCxnSpPr>
        <p:spPr>
          <a:xfrm flipH="1">
            <a:off x="2019240" y="3657240"/>
            <a:ext cx="2439000" cy="564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4" idx="2"/>
            <a:endCxn id="56" idx="0"/>
          </p:cNvCxnSpPr>
          <p:nvPr/>
        </p:nvCxnSpPr>
        <p:spPr>
          <a:xfrm>
            <a:off x="4457520" y="3657240"/>
            <a:ext cx="2362680" cy="61020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6199400">
            <a:off x="3733560" y="-2811600"/>
            <a:ext cx="1600200" cy="8001000"/>
          </a:xfrm>
          <a:prstGeom prst="foldedCorner">
            <a:avLst>
              <a:gd name="adj" fmla="val 15384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Que tipo de texto vou escre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286000"/>
            <a:ext cx="6820200" cy="703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ICIAR UM INCÊN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olinha" descr=""/>
          <p:cNvPicPr/>
          <p:nvPr/>
        </p:nvPicPr>
        <p:blipFill>
          <a:blip r:embed="rId1"/>
          <a:stretch/>
        </p:blipFill>
        <p:spPr>
          <a:xfrm>
            <a:off x="380880" y="433548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63" name="bolinha" descr=""/>
          <p:cNvPicPr/>
          <p:nvPr/>
        </p:nvPicPr>
        <p:blipFill>
          <a:blip r:embed="rId2"/>
          <a:stretch/>
        </p:blipFill>
        <p:spPr>
          <a:xfrm>
            <a:off x="372960" y="510552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64" name="bolinha" descr=""/>
          <p:cNvPicPr/>
          <p:nvPr/>
        </p:nvPicPr>
        <p:blipFill>
          <a:blip r:embed="rId3"/>
          <a:stretch/>
        </p:blipFill>
        <p:spPr>
          <a:xfrm>
            <a:off x="5181480" y="441972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65" name="bolaacafrao" descr=""/>
          <p:cNvPicPr/>
          <p:nvPr/>
        </p:nvPicPr>
        <p:blipFill>
          <a:blip r:embed="rId4"/>
          <a:stretch/>
        </p:blipFill>
        <p:spPr>
          <a:xfrm>
            <a:off x="762120" y="12193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s leitores do jornal regional: pessoas mais velhas do que eu (famílias dos meus amigos, comerciantes, emigrantes, reformado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105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ão devo usar uma linguagem demasiado  juve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6199400">
            <a:off x="3789000" y="-2840040"/>
            <a:ext cx="1600200" cy="8191800"/>
          </a:xfrm>
          <a:prstGeom prst="foldedCorner">
            <a:avLst>
              <a:gd name="adj" fmla="val 15384"/>
            </a:avLst>
          </a:prstGeom>
          <a:solidFill>
            <a:srgbClr val="ff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Times New Roman"/>
              </a:rPr>
              <a:t>Ficha Planif. </a:t>
            </a:r>
            <a:r>
              <a:rPr b="1" lang="pt-PT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Quem serão os destinatários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meu tex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755000">
            <a:off x="3660840" y="3733560"/>
            <a:ext cx="1676160" cy="1218960"/>
          </a:xfrm>
          <a:prstGeom prst="triangle">
            <a:avLst>
              <a:gd name="adj" fmla="val 50000"/>
            </a:avLst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olaacafrao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bolinha" descr=""/>
          <p:cNvPicPr/>
          <p:nvPr/>
        </p:nvPicPr>
        <p:blipFill>
          <a:blip r:embed="rId2"/>
          <a:stretch/>
        </p:blipFill>
        <p:spPr>
          <a:xfrm>
            <a:off x="762120" y="24303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915400" cy="137160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cha Planif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Que objectivos é que pretendo atingir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FORM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obre o que acontec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3657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PELA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o cuidado a ter com 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olaacafrao" descr=""/>
          <p:cNvPicPr/>
          <p:nvPr/>
        </p:nvPicPr>
        <p:blipFill>
          <a:blip r:embed="rId1"/>
          <a:stretch/>
        </p:blipFill>
        <p:spPr>
          <a:xfrm>
            <a:off x="380880" y="11811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6" name="bolinha" descr=""/>
          <p:cNvPicPr/>
          <p:nvPr/>
        </p:nvPicPr>
        <p:blipFill>
          <a:blip r:embed="rId2"/>
          <a:stretch/>
        </p:blipFill>
        <p:spPr>
          <a:xfrm>
            <a:off x="982800" y="3809880"/>
            <a:ext cx="388800" cy="389160"/>
          </a:xfrm>
          <a:prstGeom prst="rect">
            <a:avLst/>
          </a:prstGeom>
          <a:ln w="0">
            <a:noFill/>
          </a:ln>
        </p:spPr>
      </p:pic>
      <p:pic>
        <p:nvPicPr>
          <p:cNvPr id="77" name="bolinha" descr=""/>
          <p:cNvPicPr/>
          <p:nvPr/>
        </p:nvPicPr>
        <p:blipFill>
          <a:blip r:embed="rId3"/>
          <a:stretch/>
        </p:blipFill>
        <p:spPr>
          <a:xfrm>
            <a:off x="982800" y="251460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686800" cy="137160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Registo algumas ideias para o meu tex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486400"/>
            <a:ext cx="8839080" cy="1143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as ideias estão, para já, todas desordenadas, mas não me preocupo com iss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4648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Natureza e os anim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2971800"/>
            <a:ext cx="2209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480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equê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36576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12600">
            <a:off x="4152600" y="2857320"/>
            <a:ext cx="761760" cy="4343400"/>
          </a:xfrm>
          <a:custGeom>
            <a:avLst/>
            <a:gdLst>
              <a:gd name="textAreaLeft" fmla="*/ 0 w 761760"/>
              <a:gd name="textAreaRight" fmla="*/ 275040 w 76176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114800"/>
            <a:ext cx="403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das a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laacafrao" descr=""/>
          <p:cNvPicPr/>
          <p:nvPr/>
        </p:nvPicPr>
        <p:blipFill>
          <a:blip r:embed="rId1"/>
          <a:stretch/>
        </p:blipFill>
        <p:spPr>
          <a:xfrm>
            <a:off x="380880" y="11811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87" name="bolinha" descr=""/>
          <p:cNvPicPr/>
          <p:nvPr/>
        </p:nvPicPr>
        <p:blipFill>
          <a:blip r:embed="rId2"/>
          <a:stretch/>
        </p:blipFill>
        <p:spPr>
          <a:xfrm>
            <a:off x="228600" y="3116160"/>
            <a:ext cx="388800" cy="389160"/>
          </a:xfrm>
          <a:prstGeom prst="rect">
            <a:avLst/>
          </a:prstGeom>
          <a:ln w="0">
            <a:noFill/>
          </a:ln>
        </p:spPr>
      </p:pic>
      <p:pic>
        <p:nvPicPr>
          <p:cNvPr id="88" name="bolinha" descr=""/>
          <p:cNvPicPr/>
          <p:nvPr/>
        </p:nvPicPr>
        <p:blipFill>
          <a:blip r:embed="rId3"/>
          <a:stretch/>
        </p:blipFill>
        <p:spPr>
          <a:xfrm>
            <a:off x="6781680" y="3040200"/>
            <a:ext cx="389160" cy="388800"/>
          </a:xfrm>
          <a:prstGeom prst="rect">
            <a:avLst/>
          </a:prstGeom>
          <a:ln w="0">
            <a:noFill/>
          </a:ln>
        </p:spPr>
      </p:pic>
      <p:pic>
        <p:nvPicPr>
          <p:cNvPr id="89" name="bolinha" descr=""/>
          <p:cNvPicPr/>
          <p:nvPr/>
        </p:nvPicPr>
        <p:blipFill>
          <a:blip r:embed="rId4"/>
          <a:stretch/>
        </p:blipFill>
        <p:spPr>
          <a:xfrm>
            <a:off x="228600" y="4183200"/>
            <a:ext cx="388800" cy="388800"/>
          </a:xfrm>
          <a:prstGeom prst="rect">
            <a:avLst/>
          </a:prstGeom>
          <a:ln w="0">
            <a:noFill/>
          </a:ln>
        </p:spPr>
      </p:pic>
      <p:pic>
        <p:nvPicPr>
          <p:cNvPr id="90" name="bolinha" descr=""/>
          <p:cNvPicPr/>
          <p:nvPr/>
        </p:nvPicPr>
        <p:blipFill>
          <a:blip r:embed="rId5"/>
          <a:stretch/>
        </p:blipFill>
        <p:spPr>
          <a:xfrm>
            <a:off x="3581280" y="3801960"/>
            <a:ext cx="389160" cy="389160"/>
          </a:xfrm>
          <a:prstGeom prst="rect">
            <a:avLst/>
          </a:prstGeom>
          <a:ln w="0">
            <a:noFill/>
          </a:ln>
        </p:spPr>
      </p:pic>
      <p:pic>
        <p:nvPicPr>
          <p:cNvPr id="91" name="bolinha" descr=""/>
          <p:cNvPicPr/>
          <p:nvPr/>
        </p:nvPicPr>
        <p:blipFill>
          <a:blip r:embed="rId6"/>
          <a:stretch/>
        </p:blipFill>
        <p:spPr>
          <a:xfrm>
            <a:off x="5410080" y="4259160"/>
            <a:ext cx="389160" cy="389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66000">
            <a:off x="1143000" y="1601640"/>
            <a:ext cx="6780240" cy="168444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M INCÊN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129528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Agora, ordeno as ideias que regist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52320" y="175248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roduçã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o quê, quando e o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286000"/>
            <a:ext cx="320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4864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28954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1. Causas do incên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4290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2. Como se propag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962520"/>
            <a:ext cx="3505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3. Consequênci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48769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541008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Conclusã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medidas a to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828800"/>
            <a:ext cx="762120" cy="4724280"/>
          </a:xfrm>
          <a:custGeom>
            <a:avLst/>
            <a:gdLst>
              <a:gd name="textAreaLeft" fmla="*/ 0 w 762120"/>
              <a:gd name="textAreaRight" fmla="*/ 275040 w 76212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858200">
            <a:off x="289440" y="2859840"/>
            <a:ext cx="2449440" cy="1191240"/>
          </a:xfrm>
          <a:prstGeom prst="rect">
            <a:avLst/>
          </a:prstGeom>
          <a:solidFill>
            <a:srgbClr val="ff99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. de Plano.gu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laacafrao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95680" y="441972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 Natureza e os ani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467160"/>
            <a:ext cx="2209680" cy="723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52388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5 (cont.)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Agora, ordeno as ideias que regist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33640" y="2057400"/>
            <a:ext cx="3238560" cy="723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envolv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133720"/>
            <a:ext cx="2209680" cy="7239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181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an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191120"/>
            <a:ext cx="1447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886200"/>
            <a:ext cx="266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equê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191120"/>
            <a:ext cx="1905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das a to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6" idx="2"/>
          </p:cNvCxnSpPr>
          <p:nvPr/>
        </p:nvCxnSpPr>
        <p:spPr>
          <a:xfrm flipH="1">
            <a:off x="723240" y="4191120"/>
            <a:ext cx="686520" cy="83880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8" idx="2"/>
            <a:endCxn id="111" idx="0"/>
          </p:cNvCxnSpPr>
          <p:nvPr/>
        </p:nvCxnSpPr>
        <p:spPr>
          <a:xfrm flipH="1">
            <a:off x="2856960" y="2781360"/>
            <a:ext cx="1695960" cy="14104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12" idx="0"/>
          </p:cNvCxnSpPr>
          <p:nvPr/>
        </p:nvCxnSpPr>
        <p:spPr>
          <a:xfrm>
            <a:off x="4552920" y="2781000"/>
            <a:ext cx="1581840" cy="110556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971800" y="541008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ma de propag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8" idx="2"/>
            <a:endCxn id="117" idx="0"/>
          </p:cNvCxnSpPr>
          <p:nvPr/>
        </p:nvCxnSpPr>
        <p:spPr>
          <a:xfrm flipH="1">
            <a:off x="4190400" y="2781360"/>
            <a:ext cx="362520" cy="26294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9" idx="2"/>
            <a:endCxn id="113" idx="0"/>
          </p:cNvCxnSpPr>
          <p:nvPr/>
        </p:nvCxnSpPr>
        <p:spPr>
          <a:xfrm>
            <a:off x="7962480" y="2857680"/>
            <a:ext cx="1080" cy="133416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 rot="20752800">
            <a:off x="146160" y="1829520"/>
            <a:ext cx="2665440" cy="1191240"/>
          </a:xfrm>
          <a:prstGeom prst="rect">
            <a:avLst/>
          </a:prstGeom>
          <a:solidFill>
            <a:srgbClr val="ff99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. Esqu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olaacafrao" descr=""/>
          <p:cNvPicPr/>
          <p:nvPr/>
        </p:nvPicPr>
        <p:blipFill>
          <a:blip r:embed="rId1"/>
          <a:stretch/>
        </p:blipFill>
        <p:spPr>
          <a:xfrm>
            <a:off x="876240" y="9525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52280" y="48769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quê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791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41008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58672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Nature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os ani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2" idx="2"/>
            <a:endCxn id="125" idx="0"/>
          </p:cNvCxnSpPr>
          <p:nvPr/>
        </p:nvCxnSpPr>
        <p:spPr>
          <a:xfrm flipH="1">
            <a:off x="6057360" y="4419360"/>
            <a:ext cx="76680" cy="14482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2" idx="2"/>
            <a:endCxn id="124" idx="0"/>
          </p:cNvCxnSpPr>
          <p:nvPr/>
        </p:nvCxnSpPr>
        <p:spPr>
          <a:xfrm>
            <a:off x="6134040" y="4419360"/>
            <a:ext cx="1372320" cy="9910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06" idx="2"/>
            <a:endCxn id="123" idx="0"/>
          </p:cNvCxnSpPr>
          <p:nvPr/>
        </p:nvCxnSpPr>
        <p:spPr>
          <a:xfrm flipH="1">
            <a:off x="1371240" y="4190760"/>
            <a:ext cx="38880" cy="160092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6" idx="2"/>
            <a:endCxn id="110" idx="0"/>
          </p:cNvCxnSpPr>
          <p:nvPr/>
        </p:nvCxnSpPr>
        <p:spPr>
          <a:xfrm>
            <a:off x="1409760" y="4190760"/>
            <a:ext cx="1257840" cy="99108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981080"/>
          </a:xfrm>
          <a:prstGeom prst="rect">
            <a:avLst/>
          </a:prstGeom>
          <a:solidFill>
            <a:srgbClr val="ff9900"/>
          </a:solidFill>
          <a:ln w="127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Ficha Planif.</a:t>
            </a:r>
            <a:r>
              <a:rPr b="1" lang="pt-PT" sz="36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pt-PT" sz="3600" spc="-1" strike="noStrike">
                <a:solidFill>
                  <a:srgbClr val="ffffff"/>
                </a:solidFill>
                <a:latin typeface="Times New Roman"/>
              </a:rPr>
              <a:t>E pronto, a planificação está esboçada. Passo agora às fichas de revisão.</a:t>
            </a:r>
            <a:r>
              <a:rPr b="1" lang="pt-P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ou agora começar a escrever o meu tex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.. sempre que acabar uma frase, irei ler as sugestões das FICHAS DE REVI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3352680"/>
            <a:ext cx="3429000" cy="1295640"/>
          </a:xfrm>
          <a:prstGeom prst="wedgeRectCallout">
            <a:avLst>
              <a:gd name="adj1" fmla="val -80972"/>
              <a:gd name="adj2" fmla="val 88481"/>
            </a:avLst>
          </a:prstGeom>
          <a:solidFill>
            <a:srgbClr val="ff9900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ão me vou esquecer qu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laacafrao" descr=""/>
          <p:cNvPicPr/>
          <p:nvPr/>
        </p:nvPicPr>
        <p:blipFill>
          <a:blip r:embed="rId1"/>
          <a:stretch/>
        </p:blipFill>
        <p:spPr>
          <a:xfrm>
            <a:off x="647640" y="12574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 processo de escrita -  exemplificaçã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8T22:10:14Z</dcterms:created>
  <dc:creator>Carlos Pires</dc:creator>
  <dc:description/>
  <dc:language>en-US</dc:language>
  <cp:lastModifiedBy>Carlos Pires</cp:lastModifiedBy>
  <dcterms:modified xsi:type="dcterms:W3CDTF">2002-03-16T23:41:37Z</dcterms:modified>
  <cp:revision>260</cp:revision>
  <dc:subject/>
  <dc:title>A POLUIÇÃO</dc:title>
</cp:coreProperties>
</file>